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9B2-24FA-4989-B5BE-FD8624E2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D0E-086B-42FD-ABBB-F3851DA9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8CB-37AA-4937-A617-83A83630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291-69C3-4180-9B64-8B5B443D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967F-370B-4B84-9120-B0598324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F034-6A89-43DD-AA98-3AC4FD4B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EDE-56D3-445C-BC76-0610578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A03-FD41-441D-8B67-A7CCE66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4A8-61B1-41AC-A506-7BDD807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65CD-EC48-45BA-BCBC-1E50BDC1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69F5-92FA-4458-9E03-FD2181B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9E4-7978-4095-A064-18EFDED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9A4B-0D19-4BB7-B9AB-9077981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667-90CB-4FA7-B028-7B7EC6B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74C3-13E5-47B9-9D48-CD90BAF5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1457-E97C-4714-8777-A5F6F544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0669-6666-41BE-8EA5-0BE2DEFE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DB31E-DF5B-47D1-985D-E5650148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B289F-0EAF-4B0F-82B8-CE37210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50B05-61A8-49AD-815B-701F318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1291D-70CE-459C-AD04-0D62B90B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96A08-AEF5-4F23-AAA8-341D952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B37-0659-4965-81D4-E2540C15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C6FA9-687E-4BFC-A4EB-059ADBE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03DC7-4E48-4FAA-AC3D-009C530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EE840-5AF6-404B-8E90-4A5A115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E2EEB-3F27-4A53-86E9-AEE50B9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06947-3DBA-4868-8175-BD0846BB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25FED-E4F6-4B3A-9233-C8F28EFA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2FE6C-50DD-450D-ABFD-AB6FE33F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1B2F7-AE8F-45BD-8B26-58160DE9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6B8B9-0302-4A35-972F-951B647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BFC41-41E6-432D-8A5A-411613F8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257-C559-40B1-8A89-2C9871A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C5157-14E1-4C21-A327-E81F459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02476-0AA7-4446-9960-A5673F18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48C79-87D1-4DA3-9DD8-32389BC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1559C-499C-4FCC-9EFB-5E87657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E098D-38BD-45B4-8DBD-9FABBAD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D9B33-72BE-4095-AC48-AA76C5C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87651-DCC2-4212-8342-68D2474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F00CA-291E-4784-A47A-8785D739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CF7E4-B9E7-42E7-997F-8C2D4CF9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8AE15-CD13-4F5C-BD5B-A07DCC9E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AFF-415B-4A11-809A-3D401CE6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3CECE-C916-456A-885A-6D52CE9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A0C74-4E69-49C7-BBE9-3233ADFC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492F8-DEDF-4D81-8536-09C7735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5458B-6227-4E41-B99B-D1D694C7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E3A73-C33B-496E-9206-FC1560F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4047E-3BA9-4D0F-A07C-0102631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341D2-F76B-4896-989F-E786036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D2ABE-368C-4909-947F-0F202D5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4169B-CCA3-4DF2-A3E7-3F3465D5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0C606-B663-486E-B386-ED983F15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6C6-35F2-40B5-825A-C2F66634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74716-4643-4472-A541-ECA3B2C8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BD91-43E8-4934-9956-0851B937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EA2D-C167-4489-9DA6-AC3131A8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15CD3-32F0-4B8B-AEA5-6CF443B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AD0D-F768-4E21-90BA-63D82837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8F6D7-802C-4196-A6F3-D8091FB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62DC-8E3E-450B-BBA3-37C28211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8079-F541-4DAF-B4E8-69EBB7D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D8624-9AF4-4A3C-A7F8-159F3A1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BFB3-44CB-43D4-ABF7-775B4CC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445-4648-43BE-B929-A1C4DADD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C493-92B9-4202-93F0-D5D0C2A9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88F3-C11D-4B68-B841-17BD5A46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10C1-EC27-48D4-962E-723DA6A8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7ABBF-04F9-4B41-9D79-D8ADD540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0AA46-8643-40B2-A97B-463407B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094ED-10CF-451E-92D7-D3762A2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21614-1974-4397-89A2-25063F2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F0496-7A77-44A1-B53C-3D9099D8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CC317-0A8C-47F6-89D8-664E01B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F17A7-989B-4913-B1D8-F7C8337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94F-B4F6-46E3-B319-8049B0B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399C5-37E0-494A-AA6F-B4A0384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8F5AF-DA21-45D5-8090-33F171BC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EC3BB-F182-4B4C-9B16-94ADCB6D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0AAAD-7AF5-49C8-857E-88BB12CD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FD063-0098-43AB-9EDE-41879057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5011-4ED0-457C-BF4C-D257B7E7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D9174-AF43-481A-A72B-80B6048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54C3-E32E-42E5-B40D-DDBC134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84642-2CAF-44AE-9727-5A00CA1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C5262-F60B-4903-9202-023C490C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509-D174-4DBE-A73E-4D5FF4A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ED3C-6B17-4683-86EB-708DDE6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F5BF0-9EBC-4391-86FD-017146A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BA89-C828-4B25-B16A-C33FBB8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FF32-77E6-44D9-BE1A-5C7806F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6A85-BD48-4769-8EF9-8E4082F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4D477-F5AF-48CE-8257-9C727B2A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69C6E-F6C0-4AB6-9995-820DEEF0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E5C1-7831-4CC3-9F24-D3D6C6B174AD}" type="slidenum">
              <a:rPr b="1" lang="es-S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347A-6A77-40AC-A20C-7D2CD78D95DC}" type="slidenum">
              <a:rPr b="1" lang="es-SV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D26D-FD93-4FE9-A18C-9F7F74E34A45}" type="slidenum">
              <a:rPr b="1" lang="es-SV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54F-4E8E-4DB9-988C-0BA1FC8E1585}" type="slidenum">
              <a:rPr b="1" lang="es-S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896-91BD-40FA-84E4-174833D26C08}" type="slidenum">
              <a:rPr b="1" lang="es-S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417-5C93-4E52-B137-C9465F3C1A68}" type="slidenum">
              <a:rPr b="1" lang="es-SV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1F34-349D-4194-95FB-145A74230FD6}" type="slidenum">
              <a:rPr b="1" lang="es-SV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S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39E2-5305-4B6E-B21A-2DD3661B261A}" type="slidenum">
              <a:rPr b="1" lang="es-S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usicagrupera.files.wordpress.com/2009/12/casa-blanca.jpg&amp;imgrefurl=http://musicagrupera.wordpress.com/2009/12/02/celebracion-latina-en-la-casa-blanca/&amp;usg=__JWcfj6TExtE9nRUy9NXZTJSrsyw=&amp;h=768&amp;w=1024&amp;sz=308&amp;hl=es&amp;start=0&amp;zoom=1&amp;tbnid=gajF7uo7v2AQHM:&amp;tbnh=127&amp;tbnw=169&amp;ei=4XZoTfecJ4iisAO0hdSmBA&amp;prev=/images%3Fq%3Dla%2Bcasa%2Bblanca%26um%3D1%26hl%3Des%26sa%3DN%26rlz%3D1G1TSNA_ESSV379%26biw%3D1366%26bih%3D643%26tbs%3Disch:1&amp;um=1&amp;itbs=1&amp;iact=hc&amp;vpx=723&amp;vpy=143&amp;dur=2110&amp;hovh=194&amp;hovw=259&amp;tx=19&amp;ty=18&amp;oei=KXZoTbX-Io2ssAP6sIGpBA&amp;page=1&amp;ndsp=19&amp;ved=1t:429,r:3,s: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radiosinternet.com/Barack%2520Obama%2520Casa%2520Blanca.JPG&amp;imgrefurl=http://www.radiosinternet.com/La_Casa_Blanca.htm&amp;usg=__CcjyNKoltT1ZltL-bY9TVbPxyi4=&amp;h=1000&amp;w=800&amp;sz=196&amp;hl=es&amp;start=223&amp;zoom=1&amp;tbnid=FWO8xaY5mniU5M:&amp;tbnh=149&amp;tbnw=133&amp;ei=RXdoTdX7EYeusAOrz-mmBA&amp;prev=/images%3Fq%3Dla%2Bcasa%2Bblanca%26um%3D1%26hl%3Des%26sa%3DN%26rlz%3D1G1TSNA_ESSV379%26biw%3D1366%26bih%3D643%26tbs%3Disch:1&amp;um=1&amp;itbs=1&amp;iact=hc&amp;vpx=362&amp;vpy=132&amp;dur=1944&amp;hovh=251&amp;hovw=201&amp;tx=51&amp;ty=28&amp;oei=KXZoTbX-Io2ssAP6sIGpBA&amp;page=13&amp;ndsp=19&amp;ved=1t:429,r:7,s:223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08360" y="1628280"/>
            <a:ext cx="34560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5400" spc="-1" strike="noStrike">
                <a:solidFill>
                  <a:srgbClr val="ebddc3"/>
                </a:solidFill>
                <a:latin typeface="Tw Cen MT"/>
              </a:rPr>
              <a:t>SEA FIEL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692360" y="321264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Tw Cen MT"/>
              </a:rPr>
              <a:t>¡Pague sus impuestos!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3 Rectángulo"/>
          <p:cNvSpPr/>
          <p:nvPr/>
        </p:nvSpPr>
        <p:spPr>
          <a:xfrm>
            <a:off x="2340000" y="6021360"/>
            <a:ext cx="6804000" cy="647640"/>
          </a:xfrm>
          <a:prstGeom prst="rect">
            <a:avLst/>
          </a:prstGeom>
          <a:solidFill>
            <a:srgbClr val="0070c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ffff"/>
                </a:solidFill>
                <a:latin typeface="Tw Cen MT"/>
              </a:rPr>
              <a:t>DIVISIÓN INTERAMER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4000" spc="-1" strike="noStrike">
                <a:solidFill>
                  <a:srgbClr val="000000"/>
                </a:solidFill>
                <a:latin typeface="Tw Cen MT"/>
              </a:rPr>
              <a:t>Hay dos cosas que no se pueden evitar: la muerte y pagar los impuestos”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2320" y="1699920"/>
            <a:ext cx="46576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5400" spc="-1" strike="noStrike">
                <a:solidFill>
                  <a:srgbClr val="ebddc3"/>
                </a:solidFill>
                <a:latin typeface="Tw Cen MT"/>
              </a:rPr>
              <a:t>SEA FIEL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362320" y="2997000"/>
            <a:ext cx="46576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Tw Cen MT"/>
              </a:rPr>
              <a:t>Devuelva el diezmo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aguen a cada uno lo que le corresponde: si deben impuestos, paguen los impuestos, si deben contribuciones, paguen las contribuciones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Romanos 13: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l dinero de Dios ha de ser empleado para realizar, de la manera en que él lo indica, la obra que él ha declarado que debe ser hecha en nuestro mund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El evangelismo, pág. 6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Si los medios fluyeran a la tesorería exactamente de acuerdo con el plan de Dios, la décima parte de todas las ganancias, habría abundancia para llevar adelante su obra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El evangelismo, pág. 18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Todo el que se opone a la autoridad se rebela contra lo que Dios ha instituido. Los que así proceden recibirán castigo” (Vers. 2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2" descr="http://t2.gstatic.com/images?q=tbn:ANd9GcTFO-sP68U4AvF2veiZHkhzpiBBVUefSwbTb6YNLHYnBLBsEtpPiA"/>
          <p:cNvPicPr/>
          <p:nvPr/>
        </p:nvPicPr>
        <p:blipFill>
          <a:blip r:embed="rId1"/>
          <a:stretch/>
        </p:blipFill>
        <p:spPr>
          <a:xfrm>
            <a:off x="2556000" y="1555920"/>
            <a:ext cx="4417920" cy="5302080"/>
          </a:xfrm>
          <a:prstGeom prst="rect">
            <a:avLst/>
          </a:prstGeom>
          <a:ln w="0">
            <a:noFill/>
          </a:ln>
        </p:spPr>
      </p:pic>
      <p:sp>
        <p:nvSpPr>
          <p:cNvPr id="389" name="4 Rectángulo redondeado"/>
          <p:cNvSpPr/>
          <p:nvPr/>
        </p:nvSpPr>
        <p:spPr>
          <a:xfrm>
            <a:off x="179280" y="378936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Tw Cen MT"/>
              </a:rPr>
              <a:t>780 millones de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5 Rectángulo redondeado"/>
          <p:cNvSpPr/>
          <p:nvPr/>
        </p:nvSpPr>
        <p:spPr>
          <a:xfrm>
            <a:off x="6659640" y="3068640"/>
            <a:ext cx="2355840" cy="914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Tw Cen MT"/>
              </a:rPr>
              <a:t>20 mil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775f55"/>
                </a:solidFill>
                <a:latin typeface="Tw Cen MT"/>
              </a:rPr>
              <a:t>El testimonio de Alexander Cos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ste no fue simplemente un descuido a la hora de cumplir la ley, sino un crimen deliberado motivado por la avaricia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40360" y="764640"/>
            <a:ext cx="469872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6000" spc="-1" strike="noStrike">
                <a:solidFill>
                  <a:srgbClr val="ebddc3"/>
                </a:solidFill>
                <a:latin typeface="Tw Cen MT"/>
              </a:rPr>
              <a:t>SEA FIEL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002060"/>
                </a:solidFill>
                <a:latin typeface="Tw Cen MT"/>
              </a:rPr>
              <a:t>Cumpla la ley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Así que el amor es el cumplimiento de la ley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Romanos 13:1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Todos deben someterse a las autoridades públicas” (Vers. 1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No cometas adulterio, no mates, no robes, no codicies, y todos los demás mandamientos”. (Vers. 9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or eso mismo pagan ustedes impuestos, pues las autoridades están al servicio de Dios, dedicadas precisamente a gobernar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Romanos 13: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775f55"/>
                </a:solidFill>
                <a:latin typeface="Tw Cen MT"/>
              </a:rPr>
              <a:t>LA CASA BLANC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6" name="Picture 2" descr="http://t1.gstatic.com/images?q=tbn:ANd9GcTE08DDXsJUtuGE-oQ6Bh0wQcSvyM9Jkh3fDvLtHmDPB0LXg9V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5672160" cy="4248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t0.gstatic.com/images?q=tbn:ANd9GcT2XL0SL2Xx1pv9nH1gI-Z2LvG_Va5gsoWbM6UndYyXLYFeGv4Qx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2565360"/>
            <a:ext cx="2952720" cy="3686040"/>
          </a:xfrm>
          <a:prstGeom prst="rect">
            <a:avLst/>
          </a:prstGeom>
          <a:ln w="0">
            <a:noFill/>
          </a:ln>
        </p:spPr>
      </p:pic>
      <p:sp>
        <p:nvSpPr>
          <p:cNvPr id="358" name="4 Rectángulo redondeado"/>
          <p:cNvSpPr/>
          <p:nvPr/>
        </p:nvSpPr>
        <p:spPr>
          <a:xfrm>
            <a:off x="1908000" y="558972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Presupue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3,552 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Rectángulo redondeado"/>
          <p:cNvSpPr/>
          <p:nvPr/>
        </p:nvSpPr>
        <p:spPr>
          <a:xfrm>
            <a:off x="179280" y="1989000"/>
            <a:ext cx="1440000" cy="914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663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6 Rectángulo redondeado"/>
          <p:cNvSpPr/>
          <p:nvPr/>
        </p:nvSpPr>
        <p:spPr>
          <a:xfrm>
            <a:off x="4427640" y="1989000"/>
            <a:ext cx="1419120" cy="914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46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 Rectángulo redondeado"/>
          <p:cNvSpPr/>
          <p:nvPr/>
        </p:nvSpPr>
        <p:spPr>
          <a:xfrm>
            <a:off x="179280" y="4437000"/>
            <a:ext cx="1490760" cy="914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ffffff"/>
                </a:solidFill>
                <a:latin typeface="Tw Cen MT"/>
              </a:rPr>
              <a:t>76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775f55"/>
                </a:solidFill>
                <a:latin typeface="Tw Cen MT"/>
              </a:rPr>
              <a:t>¿Podrían los gobiernos defender la práctica de cobrar impuestos basándose en la Biblia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Todos deben someterse a las autoridades públicas, pues no hay autoridad que Dios no haya dispuesto”. Romanos 13: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ctr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or eso mismo pagan ustedes impuestos” (Vers. 6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ctr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Paguen a cada uno lo que corresponda: si deben impuestos, paguen los impuestos, si deben contribuciones, paguen las contribuciones”. (Vers. 7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600" spc="-1" strike="noStrike">
                <a:solidFill>
                  <a:srgbClr val="775f55"/>
                </a:solidFill>
                <a:latin typeface="Tw Cen MT"/>
              </a:rPr>
              <a:t>¿Qué pasaría si los contribuyentes dejarán de pagar sus impuesto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800" spc="-1" strike="noStrike">
                <a:solidFill>
                  <a:srgbClr val="000000"/>
                </a:solidFill>
                <a:latin typeface="Tw Cen MT"/>
              </a:rPr>
              <a:t>Servicio de Rentas Internas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800" spc="-1" strike="noStrike">
                <a:solidFill>
                  <a:srgbClr val="000000"/>
                </a:solidFill>
                <a:latin typeface="Tw Cen MT"/>
              </a:rPr>
              <a:t>(IR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2" descr="http://3.bp.blogspot.com/_TwnyxWY5NRM/TOq5nOnFNxI/AAAAAAAAAD8/OmaDbJayXt0/s1600/capone6.jpg"/>
          <p:cNvPicPr/>
          <p:nvPr/>
        </p:nvPicPr>
        <p:blipFill>
          <a:blip r:embed="rId1"/>
          <a:stretch/>
        </p:blipFill>
        <p:spPr>
          <a:xfrm>
            <a:off x="1986120" y="1528920"/>
            <a:ext cx="5394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" descr="http://2.bp.blogspot.com/_q-Yta1mPI5c/SxTdLf7-69I/AAAAAAAAAA0/TrPLv7epAvo/s1600/Julio_Cesar_Chavez.jpg"/>
          <p:cNvPicPr/>
          <p:nvPr/>
        </p:nvPicPr>
        <p:blipFill>
          <a:blip r:embed="rId1"/>
          <a:stretch/>
        </p:blipFill>
        <p:spPr>
          <a:xfrm>
            <a:off x="2484360" y="1528920"/>
            <a:ext cx="43196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http://www.piodeportes.com/7BZ-PortalImageUpload/image/2010610192960.pete_rose.jpg"/>
          <p:cNvPicPr/>
          <p:nvPr/>
        </p:nvPicPr>
        <p:blipFill>
          <a:blip r:embed="rId1"/>
          <a:stretch/>
        </p:blipFill>
        <p:spPr>
          <a:xfrm>
            <a:off x="2411280" y="1533600"/>
            <a:ext cx="4537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2" descr="http://opiniones.terra.es/tmp/swotti/cacheBHVJAWFUBYBWYXZHCM90DGK=UGVVCGXLLVBLB3BSZQ==/imgLuciano%20Pavarotti3.jpg"/>
          <p:cNvPicPr/>
          <p:nvPr/>
        </p:nvPicPr>
        <p:blipFill>
          <a:blip r:embed="rId1"/>
          <a:stretch/>
        </p:blipFill>
        <p:spPr>
          <a:xfrm>
            <a:off x="2556000" y="1555920"/>
            <a:ext cx="42764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3:34:33Z</dcterms:created>
  <dc:creator>Javier</dc:creator>
  <dc:description/>
  <dc:language>en-US</dc:language>
  <cp:lastModifiedBy>Javier</cp:lastModifiedBy>
  <dcterms:modified xsi:type="dcterms:W3CDTF">2011-08-06T14:34:37Z</dcterms:modified>
  <cp:revision>22</cp:revision>
  <dc:subject/>
  <dc:title>SEA FIEL</dc:title>
</cp:coreProperties>
</file>